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6F6-9634-41B6-BB37-22D4251B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605-6C7A-40E5-9648-453D267D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3C5-1049-4223-AA56-76BDCBBC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4E8-9C96-4985-9300-AADFCB8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DF8-E3D1-464A-811C-4DE7253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EAC-D258-4880-840E-A02DFDA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FF4-06A7-4990-A9CE-092C8FD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618-0BB8-48BE-A1C2-BD8D5AF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122-149B-47AC-A9CE-93C84528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214-8C1A-4E9B-BEFA-F433AA4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73B-754D-412F-BC6E-3510139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A35-CF28-4DF1-B5BA-A95D77BF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5FC0-C7C1-4843-A4B6-EFD7C25E04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يادة وشحذ الهم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رق بين القيادة والا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659-EB28-45BE-9F94-4C3FCB1D34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ن هو القائد التحويلي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طريقة تفكير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ى في نفسه شخص له رؤية مستقبلية وصاحب رسالة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ه يعتقد بأن دورة هو نقل الناس من حوله نقلة حضار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أهداف عالية ومعايير مرتفعة وهذا يجعله يتمتع باحترام الآخري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ثقة ذاتية عالية وإصرار ذاتي عالى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قدم حلول جذرية لتابعيه وأحيانا حلول جذرية متطرفة لمشاكل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عندما يتكلم يتصل بعيون تابعية ويجعله يمارس التنويم المغناطيسي عليهم ويستطيع أن يعبر عن مشاعر تابعية أفضل منهم انفس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جاذبية شخصية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isma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وقدرة الهامية ويمكن أن تفسر أحيانا بالأنانية. يستفيد القائد من قوته ومركزة في عيون تابعية حيث يحبه الآخرون ويتبعوه . اذا كانت الجاذبية الشخصية موجهة لتحقيق أهداف المجموعة= قدرة الهام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 ثقة التابعين بالمدير نابعة من المعنى الذي يعطيه القائد لحاجات تاب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ستثير فكر تابعية لتقديم أهداف وأفكار جديد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عطي اهتمام عال لكل الناس ويعطي رعاية خاصة على المستوى الفردي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قى برغبات تابعية. فإذا تحدث التابعين عن حاجاتهم الفسيولوجية فانه يدعوهم للتفكير بحاجاتهم الاجتما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حقق دافعية أقوى عند التابعين وأداء أكب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6FD-2367-4975-8FC1-3612F1F6AD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صائص القائد التحوي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نظر القائد الى نفسه على أنه وكيل تغيير والتغيير في نظرة رحلة وليست نقطة وصو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شجاع محب للمخاطر المحسوب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ؤمن بقيمة الناس، ليس دكتاتورا، يعزز الموظف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وجه بالقيم الأخلاقية، يخلق حضارة الانجا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تعلم طول العمر وينظر الى الخطأ على أنه تجربة استفاد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قادر على التعامل مع الغموض والمواقف المعق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احب رؤية وقادر على ترجمتها للآخرين ليشاركوة ف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935-44FE-4A2D-AE2A-1B8BA62C5C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م القائد التحويلي المرتبطة بإدارة التغي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راك الحاجه ل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ياغة الرؤية والرسال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نموذج التغيير ومسارات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وين الاستراتيجية الجديد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بئة الالتزام من خلال حضارة المنظ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ارة الفترة الانتقا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6A0-83A2-4A22-A6A5-BB4588AFA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نمية القيادة الإدا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هناك اجماعا بين الكتاب حول النقص الحاد في القيادة الإدارية، وخللا في تعليم القادة وتدريب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نقط الضعف في برامج التدريب للقادة: حسب جيمس بولت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غير متكامل. يفترض أن يركز على الأبعاد الثلاثة: الفنية ، الإنسانية، الأخلاقية. لكن التركيز على البعد الفن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سريع من خلال برامج قصيرة، تكوين القادة عملية مستمرة وطويلة الأج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متقادم يركز على القضايا التي تخص القرن 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يركز التدريب على المهارات الإدارية التقليدية. يجب أن يركز على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ظروف السوقية الحالية في طل التغيرات العالمي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فعالية الشخصية والمهارات الجديدة المطلوبة للامتي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نمية الثقة الذاتية اللازمة لإدارة المنظم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1B5-0301-4ADB-AE2D-F143D6B0F0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ا يجب أن تشمله برامج اعداد القادة للقرن 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رؤية و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حضارة الانجاز وتكوين المنظمة التي تتعل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الاستراتيجية والتحليل الرباعي والتميز التنافس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الهيكلة ال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عادة الهندس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ختيار وتدريب وتحفيز وتمكي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غيير الذات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ي الموضوعات التي تقترح التركيز عليها في برامج اعداد قادة القرن 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F12-D8AF-42CB-96C2-0C4D724550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رق ماكنزي بين القيادة والإدار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قيادة لعنصر الناس، تهيئة الموظفين والإشراف عليهم ورقابت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ادارة للتفكير في الأشياء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عل ماكنزي صناعة القرارات عا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الهوار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لمدير يفعل الأشياء بطريقة 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قائد يفعل الأشياء ال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120-8805-4F80-86CD-83A402F20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كوت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2421000"/>
          <a:ext cx="7415280" cy="3902040"/>
        </p:xfrm>
        <a:graphic>
          <a:graphicData uri="http://schemas.openxmlformats.org/drawingml/2006/table">
            <a:tbl>
              <a:tblPr/>
              <a:tblGrid>
                <a:gridCol w="2471760"/>
                <a:gridCol w="3362400"/>
                <a:gridCol w="158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ا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ناص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تحديد الاتجاه: تنمية رؤية مستقبلية بعي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خطيط والموازنات: وضع الخطوات التنفيذية والبرامج الزم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قاط الاهت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وجيه البشر: الاتصال بالكلمة والفعل للتأثير وخلق روح الفر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نظيم وتهيئة الموارد البشرية: الهيكل التنظيمي- السلطة والمسئولية، التفويض والسياسات والإجراء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مية الشبكة الادارية اللاز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حفيز والإلهام: اشباع حاجاتهم الانس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رقابة وحل المشكلات: المتابعة التفصيلية للتنفيذ وتحديد الانحرافات من أجل التصحي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قق تغييرات أحيانا جوهرية مثل سلع جديدة يريدها المستهلك، علاقات طيب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أن يحقق قدرا من النظام لتحقيق النتائج المتوق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خ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599-43BB-4457-BA73-17089C182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دير والقائد حسب الهواري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532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ائ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ف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ضع الرؤ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عبئ الطاقات ويبني روح الفري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فز معنو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بش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معاني والآما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بحث عن الج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نفعالي مليء بالمشاع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يشرك المرؤوسين في اتخاذ القر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ذات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ف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خط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ظم ويحدد الاختصاص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كاف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نظم وال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لوائ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سوابق والمأل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وضوعي منضب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خذ القرارات وربما يشرح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من خارجة: تحفيز مصطن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699-C5A8-4A1D-9FDB-60EBED7F11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صفوفة القيادة/الادارة : لجون كوت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قوي ومدير قوي                   قائد قوي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رؤية منفصلة عن الواق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وجية الأفراد الى هدف دون تنظ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استراتيجيات ينقصها التخطيط الرسمي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قو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تجه العمليات نحو البيروقراط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تخصص الزائد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مزيد من السياسات والإجراء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نظم الرقابة تصطدم بالابت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د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5445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87280" y="227628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412-821E-468F-A71C-9C862510C2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ستخدم اسلوب التدعيم الشرطي ويقبل المرؤوسين بذلك. اذا فعلت كذا تأخذ مكافأة كذا أو تتجنب عقاب كذ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لتدعيم المشروط مزايا حسب الدراسات الساب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فع أداء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سين الرضا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خفيض مخاطر الدور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سلوب المدير التباد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وضح العمل المطلوب من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هذا يبني ثقة عن المرؤوسين لمعرفتهم المسبقة بالمطلو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عترف بحاجات المرؤوسين ويبين كيفية اشباع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هذه الترتيبات تشجع المرؤوسين على القيام بالنتائج المتوقعة منه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A66-744B-47C5-AF38-79B132BA91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ساليب المدير التبادلي بين الايجابية والسلب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ولا: الأساليب الايجابية وتشمل أسلوب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إدارة بالاستثناء: يتم التدخل عندما تسوء الأحوال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زاء الشرطي: المكافأة مرتبطة بتحقيق الأهداف، اعطاء التسهيلات اللازمة للمرؤوس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ثانيا:الأساليب السلبية وتشم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دعيم السلبي المشرو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ع الأمور تجري كما تجر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F4C-A811-4C3F-B50D-7562E9AEC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باب عدم فعالية القيادة التبادل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قص مهارة القائد في استخدام نظم التدعيم الا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ظم تقييم للأداء غير سلي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غير قادر على تقديم الحوافز الايجابية للمرؤوسين بسبب محدودية الموارد أو لخضوعها لقواعد خارجة عن سلط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ضغوط العمل قد لا تسمح بالتقييم الجيد أو التطبيق الايجابي للشرو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ستخدام نظم التدعيم السلبي غير فعالة على المدى البعي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323-48F6-44E8-B647-21DED2251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ضرورة توفر نوع جديد من القا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حن نحتاج الى قيادة من نوع جديد تناسب الواقع الجديد. قيادة تقبل التغيير وتتأقلم حسب الواق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القيادة التي تحب التغيير هي القيادة التحوي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أهم ما يميز قادة منظمة القرن ال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أنهم يحبون ا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6D9-0B92-4400-85E6-079DC132E4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rayah</cp:lastModifiedBy>
  <dcterms:modified xsi:type="dcterms:W3CDTF">2006-10-27T21:16:24Z</dcterms:modified>
  <cp:revision>28</cp:revision>
  <dc:subject/>
  <dc:title>PowerPoint Presentation</dc:title>
</cp:coreProperties>
</file>